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68665"/>
        <c:axId val="12185352"/>
      </c:barChart>
      <c:catAx>
        <c:axId val="13668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85352"/>
        <c:crosses val="autoZero"/>
        <c:auto val="1"/>
        <c:lblAlgn val="ctr"/>
        <c:lblOffset val="100"/>
        <c:noMultiLvlLbl val="0"/>
      </c:catAx>
      <c:valAx>
        <c:axId val="12185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68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322-E0CD-46D2-8A19-26BDC576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DCE-3BA9-4BC9-9839-81A6732A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CA0-7883-47C4-9E3E-6A57E730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ECE-1358-4AC1-89EE-6B8A8702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7CB-BE38-4B73-8D1F-43391FE0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112-C368-475E-B0F3-2AA90F71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EE0-EB62-48B5-90CA-08156875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BDC-B2E0-4F4E-A7AE-CB77F473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241-E2A5-49A7-AA45-299DB9E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68E-0A81-4E3E-B9BF-AFB8485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7B9-C3B3-4342-838B-A42387AF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922-F297-4EB5-A8CA-0ABC7873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616B2-0251-40CF-B38A-7682C787C9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