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910963"/>
        <c:axId val="89540712"/>
      </c:barChart>
      <c:catAx>
        <c:axId val="539109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40712"/>
        <c:crosses val="autoZero"/>
        <c:auto val="1"/>
        <c:lblAlgn val="ctr"/>
        <c:lblOffset val="100"/>
        <c:noMultiLvlLbl val="0"/>
      </c:catAx>
      <c:valAx>
        <c:axId val="895407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109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ECF-F048-41F8-9B87-1964FA88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322-FF2F-4389-AD7E-E0DCD596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9D55-35C7-4541-A94A-6F1BFAEC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0D00-D60C-4DD8-9305-C81D50B0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432-6D35-4C72-AAEE-C0519A4B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5F69-1EA1-4B0E-8C85-02DA8315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E6BE-70FA-433C-BD17-C4103865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AB3-E595-4B08-AA3E-C2664738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CE4B-0304-40BB-B603-99D691EF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658-CC69-4FAD-949D-51B72E0F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A069-D2B3-4DF3-A948-F80442D6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CBDB-A78F-44AC-B082-2CF5C3F7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D9169-2519-455A-9F32-A0411C3034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