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624489"/>
        <c:axId val="5050637"/>
      </c:barChart>
      <c:catAx>
        <c:axId val="136244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0637"/>
        <c:crosses val="autoZero"/>
        <c:auto val="1"/>
        <c:lblAlgn val="ctr"/>
        <c:lblOffset val="100"/>
        <c:noMultiLvlLbl val="0"/>
      </c:catAx>
      <c:valAx>
        <c:axId val="50506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244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4E31-F8D9-4F7C-B583-FC2DEAA7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B94-592E-4535-BFF7-58122179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8AC2-28B3-422A-B4B6-899B565C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40CC-1990-42C8-B933-19AD908C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437F-BEA4-4A6C-8937-A154FD1B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367B-81E8-4122-9279-C2467157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86D-0A16-402E-95D5-A6F55CB7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0266-7033-42BD-87A8-1EF36FB1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793C-B7E4-410A-A2D5-E3ABD2F8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753B-EDEC-4793-B5E3-17025C90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892B-813A-43F5-B988-1D6FD9B1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CEEE-64EF-4F7B-98D7-AF46A2D3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A7419-7393-462E-993B-0CE6D01644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