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68791"/>
        <c:axId val="75095666"/>
      </c:barChart>
      <c:catAx>
        <c:axId val="49768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95666"/>
        <c:crosses val="autoZero"/>
        <c:auto val="1"/>
        <c:lblAlgn val="ctr"/>
        <c:lblOffset val="100"/>
        <c:noMultiLvlLbl val="0"/>
      </c:catAx>
      <c:valAx>
        <c:axId val="75095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68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A273-9F10-489B-A569-CC05AD2F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35B-DF23-4194-B0AE-9DFC60CA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947-540F-49BD-89FD-E0F2740F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F5B-1E28-4B59-A350-29EE4951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61EE-D26D-40BF-9B1A-A86AA79A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56E3-EDDA-49BB-8023-DA2A6737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A793-E140-40CD-A990-235A4CB5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C33-8B30-447F-A2A7-C18E6D74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5E86-90D3-41AF-94A0-24FC8567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63D3-820E-43D8-97E6-12A03817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197-EAAE-4B2F-8C0B-CC7001AA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F0C-5CE1-455A-963B-775E7E02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7CA84-9231-4F15-BECB-EA94C7872A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