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86509"/>
        <c:axId val="93914125"/>
      </c:barChart>
      <c:catAx>
        <c:axId val="76386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4125"/>
        <c:crosses val="autoZero"/>
        <c:auto val="1"/>
        <c:lblAlgn val="ctr"/>
        <c:lblOffset val="100"/>
        <c:noMultiLvlLbl val="0"/>
      </c:catAx>
      <c:valAx>
        <c:axId val="93914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6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516-BB67-43AF-8E46-55F7804A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F80-51D1-4E4A-96DF-3CE3B222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237-50FC-47BF-A1F1-D959333C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F5F-BD8E-45B0-AC6B-16164CFE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B10-53E6-422E-980C-EFD709E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C04-D150-417C-9223-22BA697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C32-43B1-44A2-AFA6-3F2DE71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E86-A522-486B-8F5F-184BC249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ACB-AE5E-4689-8457-DC39163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7D7-2ECE-4B9B-8B1F-91FBE63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93B-D3F7-481A-A424-E586FD2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7EE-29D5-4C81-9DCF-1263195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F72E-60F5-40D7-B60F-7E2D6EB4B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