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6793817"/>
        <c:axId val="22001956"/>
      </c:barChart>
      <c:catAx>
        <c:axId val="7679381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001956"/>
        <c:crosses val="autoZero"/>
        <c:auto val="1"/>
        <c:lblAlgn val="ctr"/>
        <c:lblOffset val="100"/>
        <c:noMultiLvlLbl val="0"/>
      </c:catAx>
      <c:valAx>
        <c:axId val="2200195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79381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1D0E-D503-4BEC-AE79-626425335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BB98-5F27-460A-A72B-3B3F62F09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6831-CDC1-4D70-B9A0-5DE48E360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90AA-5E10-4749-BBAD-6353882C0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E90C-74AE-4485-9DBD-B6F636B93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1D3C-2893-42C7-9059-8F82640CA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04AA-175A-49A8-87BB-5E1E7CD05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750B-40AB-49C6-B260-C01A516E4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42E0-556C-4AF0-8BC9-230DAA92D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4FBA-540E-4259-8FF3-62E82B590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D48D-A814-48F4-9D71-744B22014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2353-ADA6-4B74-8493-79EB7A1F4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E00404-B78D-4B5F-8C03-01A55E96E4A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