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11520"/>
        <c:axId val="74094295"/>
      </c:barChart>
      <c:catAx>
        <c:axId val="86811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94295"/>
        <c:crosses val="autoZero"/>
        <c:auto val="1"/>
        <c:lblAlgn val="ctr"/>
        <c:lblOffset val="100"/>
        <c:noMultiLvlLbl val="0"/>
      </c:catAx>
      <c:valAx>
        <c:axId val="74094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11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36E-5319-4E7A-9261-8E1EC095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5F3-FF70-45C9-AC73-AEECB80E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90A-7E5F-4A98-9189-9D905084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32C-11F5-4B94-9387-113BC1A2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320-EAA9-460E-9024-EA09A97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373-DBEC-42CD-8014-38BE6A59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753-CAE1-41EE-9562-EF602415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462-7A13-4335-AFDD-5B555399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6AC-AAB7-4E76-AEE1-F0DB86A2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83C-886F-46B2-BAFF-1B1F7651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778-6CCF-490B-9BAD-421CDE6E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CD1-8C86-4C0E-8A57-DB00330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760C0-5B4D-4E7C-9401-31C5C6CFA5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