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52088"/>
        <c:axId val="71808386"/>
      </c:barChart>
      <c:catAx>
        <c:axId val="24552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08386"/>
        <c:crosses val="autoZero"/>
        <c:auto val="1"/>
        <c:lblAlgn val="ctr"/>
        <c:lblOffset val="100"/>
        <c:noMultiLvlLbl val="0"/>
      </c:catAx>
      <c:valAx>
        <c:axId val="71808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52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86D-125D-4642-A8FE-02A3E414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049-26D8-4CC6-A3C3-F60F1486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8D4-129A-4CA8-82BF-B0256966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8B4-B8E2-42D8-B906-5595803B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659-8E9D-45B3-B2D4-141CCD77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A1E-08E9-4435-B3F8-8B83CA80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815-1643-471A-9651-4F6503E0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17F-4A22-4843-8C9C-3AE4DFEE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E1E-8CD4-4735-829D-70AAF23D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197-5B5C-4BC7-B9AA-657D5806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F4F-B36C-4C56-A35D-B14451F3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7731-F231-4A89-B098-005E09B5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269C6-6EEB-4A26-8FDB-C96510E6F1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