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07576"/>
        <c:axId val="31999449"/>
      </c:barChart>
      <c:catAx>
        <c:axId val="9607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99449"/>
        <c:crosses val="autoZero"/>
        <c:auto val="1"/>
        <c:lblAlgn val="ctr"/>
        <c:lblOffset val="100"/>
        <c:noMultiLvlLbl val="0"/>
      </c:catAx>
      <c:valAx>
        <c:axId val="319994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7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F07D-4EB3-4247-BF39-3863858C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2D4-C65D-41DB-A95D-03770F8F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A45-AD6D-427D-B7F3-ACA1C3F4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DFE-7BAE-4104-9807-EAD40B2C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C175-6A59-4A38-A5B5-464274A4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6CBC-B0E5-4C9B-850F-9B2580B0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F7C-6708-437B-A3BB-E31C9324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A58-37B5-4412-A48A-08FBD49A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960-593B-4D34-A4EB-775AC0C1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D76-596E-42C7-BC49-A9EFD72B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339-18ED-4B19-A1B6-3AA2710A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C2A-9149-43B0-A670-D6174977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F1D8F-C5D5-459D-9A71-5F5F3FCC8A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