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33535"/>
        <c:axId val="29364316"/>
      </c:barChart>
      <c:catAx>
        <c:axId val="36933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64316"/>
        <c:crosses val="autoZero"/>
        <c:auto val="1"/>
        <c:lblAlgn val="ctr"/>
        <c:lblOffset val="100"/>
        <c:noMultiLvlLbl val="0"/>
      </c:catAx>
      <c:valAx>
        <c:axId val="29364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33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F80-2016-45C3-8ED8-B076EE40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EFA-BFAC-4F39-9DEC-0E028F65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D62-CE2F-4F4B-A4C5-98E04110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7C1-F9B6-4E8D-A37B-8919C542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277-C7F5-44C7-8292-0CBC02AD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F2F-53BD-4F6C-945D-2F7AA8F4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4D5-7BF8-43D2-B002-878D3BE1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5AD-9F81-49E7-A09B-893BFFE2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CB4-5396-4CFE-B379-8EF7F9BA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53CA-9D4D-47A5-9890-B76DDCA3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C69-B926-4FB9-B34D-92EC0B70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989-FF3F-4F2C-9205-870014A2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0A73E-1A78-45C5-B580-5F6D7E2CC6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