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52978"/>
        <c:axId val="87852591"/>
      </c:barChart>
      <c:catAx>
        <c:axId val="38452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52591"/>
        <c:crosses val="autoZero"/>
        <c:auto val="1"/>
        <c:lblAlgn val="ctr"/>
        <c:lblOffset val="100"/>
        <c:noMultiLvlLbl val="0"/>
      </c:catAx>
      <c:valAx>
        <c:axId val="87852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52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2F4-C568-40F3-A83B-B6BA8AF8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69D-ED7E-4205-B35D-CB15D62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727-FAD0-42FA-89A8-0136C526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338-D4D8-439B-BDA6-5FA15009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D88C-3921-4681-A073-6531C438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EA1-64D9-4A91-B2FE-18C62A6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875-A0FC-4B04-BFD1-52DE85A7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5AF-C464-455E-81B5-C55C2B98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C5B-C65F-4C79-998B-23435A73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C3D-EE55-49DE-82C1-5FE72A63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50F-4C98-4BE5-8C7D-79D35927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489-F0A0-4679-8802-16F60925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B00DB-24E3-444F-A015-768516BD74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