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3243"/>
        <c:axId val="17639954"/>
      </c:barChart>
      <c:catAx>
        <c:axId val="6653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9954"/>
        <c:crosses val="autoZero"/>
        <c:auto val="1"/>
        <c:lblAlgn val="ctr"/>
        <c:lblOffset val="100"/>
        <c:noMultiLvlLbl val="0"/>
      </c:catAx>
      <c:valAx>
        <c:axId val="17639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DEC-7A50-4CF5-9712-76199DF1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08C-DB78-4F87-A5FA-BB63267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32F-8030-4835-BF18-9F10E3E5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E2C-B702-4A53-9EC0-BEABF7EA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109-4CE4-4751-BFA4-A092826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71E-27B4-40A9-A446-7E83BB6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E71-4BFA-48B3-A2C3-1A18AF5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E23-CA95-4299-ADB3-5706DD44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FE5-0B31-4FF3-9243-29745C72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B86-8147-4E0A-98AD-7083B71C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1C8-9034-4A96-AFE7-74936CF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637-B595-4F1A-B83D-C6A0241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0E67-041D-4495-854B-F9824B20F4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