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30280"/>
        <c:axId val="82696808"/>
      </c:barChart>
      <c:catAx>
        <c:axId val="88230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96808"/>
        <c:crosses val="autoZero"/>
        <c:auto val="1"/>
        <c:lblAlgn val="ctr"/>
        <c:lblOffset val="100"/>
        <c:noMultiLvlLbl val="0"/>
      </c:catAx>
      <c:valAx>
        <c:axId val="82696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30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73F-B208-4929-9F54-94E77FD1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B0B-9DD5-49CF-AA37-D7CC64A1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FEB-29DF-4B7A-87C0-2B9AC5DE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7D12-8460-4025-8DD3-4C00F8A7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A7D-B7A3-42BD-BF7A-8CBA2802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3AF-3A40-4B12-8F33-4279510A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8B0-92C5-4B04-AFAA-3507FE32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14D-3431-41D2-AA35-DF31ED9D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389-2F07-4A3E-A162-F5D7A362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792-5B92-47AD-8A99-3BE3BBF7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DDD-A7B9-42F7-8BA3-5A34BB86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097-1321-4563-8169-161B1078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D406D-0A53-4640-8471-5AA5410DE7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