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19320"/>
        <c:axId val="56504562"/>
      </c:barChart>
      <c:catAx>
        <c:axId val="48419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04562"/>
        <c:crosses val="autoZero"/>
        <c:auto val="1"/>
        <c:lblAlgn val="ctr"/>
        <c:lblOffset val="100"/>
        <c:noMultiLvlLbl val="0"/>
      </c:catAx>
      <c:valAx>
        <c:axId val="56504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19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FAEB-6890-4315-8548-97AE815D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54F2-2CF9-4FC4-A876-28242F0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43C-5E2B-4FC6-B8A9-D183856B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194-D444-4158-88F4-C333D7A2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1482-5772-499C-A11F-FBF9853D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46F-3C80-4919-ACE9-A94D8FAD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9FC-955F-4CF4-A5C9-327D39E0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E0BF-9122-4EA4-9665-85DC0FEC8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59A2-3BEF-474D-A15F-C5817A336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EAAC-61AD-4E0A-903A-66D01E32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63E-C321-4544-B42D-E88A922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D2F8-C873-4F4B-8EBD-932CD493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A1143-DB5F-4E71-A0ED-6B9B6E99F6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