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826168"/>
        <c:axId val="89470172"/>
      </c:barChart>
      <c:catAx>
        <c:axId val="638261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70172"/>
        <c:crosses val="autoZero"/>
        <c:auto val="1"/>
        <c:lblAlgn val="ctr"/>
        <c:lblOffset val="100"/>
        <c:noMultiLvlLbl val="0"/>
      </c:catAx>
      <c:valAx>
        <c:axId val="894701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261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0825-42CA-4842-A605-5587144D6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B77D-3B97-4E22-90AD-7AAB3B4B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E240-640D-4C30-B225-90238038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5D4B-4AF9-43FD-A366-529CB2D2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F898-C2B3-4CA3-906B-605692BC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A0C6-9774-4C93-A2D6-0647C3FB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2797-30F7-4D5E-A6F0-BA87C656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E4ED-1D0D-46E4-B63F-4343110D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465E-34BA-4DCA-9CC7-92D322D9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BAA8-2285-487C-9513-E3DC40AF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1913-9D8C-4226-B538-8EFBC270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8E03-67B1-41BB-8216-29B497F0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23E25-EAB7-4202-8B0C-58C51CC6FD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