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482"/>
        <c:axId val="96970265"/>
      </c:barChart>
      <c:catAx>
        <c:axId val="584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70265"/>
        <c:crosses val="autoZero"/>
        <c:auto val="1"/>
        <c:lblAlgn val="ctr"/>
        <c:lblOffset val="100"/>
        <c:noMultiLvlLbl val="0"/>
      </c:catAx>
      <c:valAx>
        <c:axId val="969702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EA4C-955B-4040-8AEC-B9F91586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12E-F828-4ED3-AF35-B64CC741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36DD-EF1A-413C-A979-ED539958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71B1-57C3-4D3F-9D7A-C44B4B3E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96F-442A-429A-80F7-1A647642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979-1AE6-47B8-ADA2-68BB0751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80B-2F9E-4743-ADFA-ED87D032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6C43-D424-4389-85AB-A5A4C3D4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B11-EBE9-4062-B80E-9FF31DE6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6D6-B957-47D0-8396-1A7CA9AA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EDF1-A9D3-4A07-8AAC-22E1C3D8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5B0E-2689-47E8-8F39-397B06C5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D9C0D-781A-4E8C-ADAA-B1AE690FC5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