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34783"/>
        <c:axId val="28485254"/>
      </c:barChart>
      <c:catAx>
        <c:axId val="38334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85254"/>
        <c:crosses val="autoZero"/>
        <c:auto val="1"/>
        <c:lblAlgn val="ctr"/>
        <c:lblOffset val="100"/>
        <c:noMultiLvlLbl val="0"/>
      </c:catAx>
      <c:valAx>
        <c:axId val="28485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34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26C-F824-4EE0-934C-0CB047D2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4F7-5775-46CB-A5FB-197BDCB4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1FA-FB83-402C-9F9C-1C2D329C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6DE-CE64-44B5-ADB1-3FFF2C2F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A0A-2F60-43B2-B2DA-6309DFED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56F-5E78-4F2F-8743-D175FD28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DF8-82B5-41E9-83E4-CDF5E036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521-A9CA-4E96-B37F-93752BAB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CEE-8426-47C7-A801-C7E4CD3F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A1B-0176-4B75-88FA-9B08D8A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5D7-11F6-4FB8-8FF5-51A8F236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A7C-7231-4C1F-80B0-824CD26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3841E-3921-4DEB-8936-62752D14E0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