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4580"/>
        <c:axId val="50017076"/>
      </c:barChart>
      <c:catAx>
        <c:axId val="7374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17076"/>
        <c:crosses val="autoZero"/>
        <c:auto val="1"/>
        <c:lblAlgn val="ctr"/>
        <c:lblOffset val="100"/>
        <c:noMultiLvlLbl val="0"/>
      </c:catAx>
      <c:valAx>
        <c:axId val="50017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4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4B9-BB3A-49F0-8569-BE43C954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A95-C67C-46CC-BB81-1AB3E1D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88C-D5C3-48B0-92F8-E4B9B55F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7C1-3A6E-4331-9849-F93E1468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821-C959-43BE-A10A-F34067C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757-DFD9-40BD-AAE9-864F754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B2E-E24C-4EFA-ACD7-7E807FC1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589-1A85-4EE1-B2E6-6B21D2D6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27C-6D1F-4BA1-BF0C-F04D974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809-C631-4606-9B09-F256118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9A5-A87F-4168-8C7A-76CA283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D86-6169-4351-B188-7FD3F0E8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1849-B25C-40A2-B3F0-53B95E2AA3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