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0127"/>
        <c:axId val="51499407"/>
      </c:barChart>
      <c:catAx>
        <c:axId val="2310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9407"/>
        <c:crosses val="autoZero"/>
        <c:auto val="1"/>
        <c:lblAlgn val="ctr"/>
        <c:lblOffset val="100"/>
        <c:noMultiLvlLbl val="0"/>
      </c:catAx>
      <c:valAx>
        <c:axId val="51499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EAD-7B56-4DCF-9BA7-9B92E3A6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282-4E57-4614-86C0-BF68E82C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492-70AF-4997-9ED8-ADC437CC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686-B091-49DD-BCC7-B2684F26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872-364C-40DD-B514-0AFA8AD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D6F-33CE-454C-9633-0FE10A8A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8C9-C509-436A-A255-1B95E840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CA6-AAE1-437E-904E-29046700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BB0-AD12-4FE1-9103-00CE6BA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379-034C-48CC-950F-D32750A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94F-8F65-4342-B9B4-796786E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2BA-8654-44BB-B87F-8BD73F98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B3B1E-35B1-496B-B576-5EDAFABFCE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