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124858"/>
        <c:axId val="86132265"/>
      </c:barChart>
      <c:catAx>
        <c:axId val="76124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32265"/>
        <c:crosses val="autoZero"/>
        <c:auto val="1"/>
        <c:lblAlgn val="ctr"/>
        <c:lblOffset val="100"/>
        <c:noMultiLvlLbl val="0"/>
      </c:catAx>
      <c:valAx>
        <c:axId val="86132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24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037-1DE2-4574-A977-16462BD5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067-4824-4768-B4A1-8A7EC01E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9F91-9322-4EA2-9DC7-81173E18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7FC-D27A-4010-A9E1-5C793749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389-A079-4AB4-B743-AF87A96E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3029-5BC9-4AF9-867C-77367DED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94C-4CF4-4C1F-B864-0B8A0A91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5DE3-CC00-4D03-8378-C65EA921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F44-CDF4-4CA2-B500-C0646ADC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FC63-5225-4052-A3D4-285A2F03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18D-15E1-4962-825F-DFB491A7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F9A-50C8-4F3B-B5C2-C82827AD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FEBC4-20BA-4064-A6A2-BC144D9074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