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00482"/>
        <c:axId val="35068368"/>
      </c:barChart>
      <c:catAx>
        <c:axId val="52100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68368"/>
        <c:crosses val="autoZero"/>
        <c:auto val="1"/>
        <c:lblAlgn val="ctr"/>
        <c:lblOffset val="100"/>
        <c:noMultiLvlLbl val="0"/>
      </c:catAx>
      <c:valAx>
        <c:axId val="35068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00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F5C-5FA6-4EEE-B60B-AFC5D710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4E1-5E71-4D06-A8FC-3CD0BBFB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D5F-467D-4DA4-BF62-A77731CC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7FC-9133-431D-9FFC-9A83CE90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7CB-E72F-41A2-BD9C-72B874BC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DC4-D97E-4AD2-9AB7-697395CF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069-908F-49C4-ADC6-11806292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FEE-8EEB-4E23-AEA6-DC52EF90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BBE-0510-42FE-ADD5-15A45CF8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FAB-360A-426B-85AE-BE1B87A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472-652C-4175-A9ED-9CC589B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041-9AFA-4BB7-9426-9743772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9E40D-E41B-4F68-BB69-C6E5BEC2E6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