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77256"/>
        <c:axId val="47983410"/>
      </c:barChart>
      <c:catAx>
        <c:axId val="21577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83410"/>
        <c:crosses val="autoZero"/>
        <c:auto val="1"/>
        <c:lblAlgn val="ctr"/>
        <c:lblOffset val="100"/>
        <c:noMultiLvlLbl val="0"/>
      </c:catAx>
      <c:valAx>
        <c:axId val="47983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77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EF65-9933-4D39-A8E2-30AC54AA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12D-C5D7-4BAC-9ED8-6A84801D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F0D-9C90-4FE2-9C8A-39491169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DC96-0156-43EE-9FE1-AAB41956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413D-F5E3-4CA9-B4DF-F2442E2F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61C-5C5C-4EC8-A59C-C63A5764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66C4-6A22-4803-A03D-00AC0DD9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482-C1E2-4075-B999-534C8511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190-9045-483F-A5B6-3ACE36FB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2792-1B68-4834-AFFA-6FC6CAB0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BE5-D677-497D-8FD9-8CDE864A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343-787D-42D6-8BEC-533C9EA9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5B00D-ABE3-4DD7-AC70-340466D8DF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