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5487352"/>
        <c:axId val="75113652"/>
      </c:barChart>
      <c:catAx>
        <c:axId val="5548735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113652"/>
        <c:crosses val="autoZero"/>
        <c:auto val="1"/>
        <c:lblAlgn val="ctr"/>
        <c:lblOffset val="100"/>
        <c:noMultiLvlLbl val="0"/>
      </c:catAx>
      <c:valAx>
        <c:axId val="7511365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48735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60AC1-4BE9-4B19-B832-74A69A861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91C22-E838-4D41-80FC-DD12B9757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EE524-638F-4017-8AA4-EAFF96EF1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37D14-3B82-46EA-90AA-185ABD104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BD023-CB5D-4E65-9C44-37CE7DE38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AE65B-1EF4-448E-A661-D651903D5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21CD2-0E28-45DA-BA62-F3FF5D9CC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71B88-9A57-4BDA-9CD1-4CE3CE208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1F181-01C7-448B-9B96-BB3424431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906ED-12BA-4F84-9BE0-608B26F0C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F80C8-A24D-4967-BFD8-E219E32B5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2F7D2-AC01-4A66-9B8E-410EAE3C6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FB2F29-EBC7-43F2-894F-33215CE9BFD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