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4148"/>
        <c:axId val="26790478"/>
      </c:barChart>
      <c:catAx>
        <c:axId val="2554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90478"/>
        <c:crosses val="autoZero"/>
        <c:auto val="1"/>
        <c:lblAlgn val="ctr"/>
        <c:lblOffset val="100"/>
        <c:noMultiLvlLbl val="0"/>
      </c:catAx>
      <c:valAx>
        <c:axId val="267904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4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5E3-2B09-471B-9F48-D7ADE86A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D29-FCAB-475A-A823-C7966433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61E-DFAC-47F8-B6BD-163EEC55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819-15E0-48C0-8D4D-AF4D9AD5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C4BD-E0BA-41B6-91EF-5C885CA2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0ADC-C7F1-471B-AFC8-7666C40F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025-6511-41E9-92C5-B1B5CC91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396-9B13-406B-9C10-F3333D0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D36-6C84-4AA3-93F0-B02CB964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023-ADEF-4760-B15E-9D3D8386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BBA8-53E6-4BE3-B4CF-549F898E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467-C83B-439A-B2F4-A482C6EC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0351F-FD03-4881-ACC1-895EB0C033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