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7421"/>
        <c:axId val="48477047"/>
      </c:barChart>
      <c:catAx>
        <c:axId val="68357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7047"/>
        <c:crosses val="autoZero"/>
        <c:auto val="1"/>
        <c:lblAlgn val="ctr"/>
        <c:lblOffset val="100"/>
        <c:noMultiLvlLbl val="0"/>
      </c:catAx>
      <c:valAx>
        <c:axId val="48477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7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54D-1F85-4E17-A22B-FC4D182A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9D2-393D-4856-A0DE-723EC01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D56-65F0-4AFD-8924-FE7C14FF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CD7-C723-4E41-9ACD-2A6349B5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80B-077A-4AEF-8070-3B89F97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651-EDC7-4A31-8711-FBE74CCC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6C1-2986-4004-B7AC-2FD19BF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404-03A1-4875-BB13-3B5E404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F4C-F741-451C-B84B-112BA5F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20B-D740-479E-BDB9-CF5BD98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D6C-62BE-480F-B318-87A7A51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174-9E1F-4240-8BC1-7065944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5989B-4323-466B-A64F-6DA5A0B8E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