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78346"/>
        <c:axId val="62227937"/>
      </c:barChart>
      <c:catAx>
        <c:axId val="84378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7937"/>
        <c:crosses val="autoZero"/>
        <c:auto val="1"/>
        <c:lblAlgn val="ctr"/>
        <c:lblOffset val="100"/>
        <c:noMultiLvlLbl val="0"/>
      </c:catAx>
      <c:valAx>
        <c:axId val="62227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8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045-8D2B-4653-9306-7A2E2189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D2D-666D-4812-9BDF-A041E2E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4C9-A82F-443D-8A7F-A1F3A6CB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6AD-FAE5-46D5-9151-70221C31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163-7F04-4FDC-89D7-A29C2553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5C1-9824-426C-A370-83F57E3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EE6-FF3B-4B23-9E3E-37AA4183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826-E533-468F-A881-F4342E8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F69-5E6D-4861-8936-E90EABD2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733-62BD-404F-8571-0EE71C9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6C6-C3F2-4166-8860-5F0ED85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6E2-5DD5-4095-B50A-A9D95C6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7ED18-8FF3-448D-8543-0A5C8B175E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