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640449"/>
        <c:axId val="20837364"/>
      </c:barChart>
      <c:catAx>
        <c:axId val="666404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37364"/>
        <c:crosses val="autoZero"/>
        <c:auto val="1"/>
        <c:lblAlgn val="ctr"/>
        <c:lblOffset val="100"/>
        <c:noMultiLvlLbl val="0"/>
      </c:catAx>
      <c:valAx>
        <c:axId val="208373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404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C543-F728-4A76-AE38-468068C8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95F4-159B-4FCD-8E01-641BFC68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44F5-0616-44DA-BF26-C27E3B06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6A34-8EFB-462C-AA92-0A1A134A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0176-46ED-4420-9475-8147078F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00CC-BA39-44D2-A689-61834A1A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5C57-B261-4BBA-BF57-F539E78D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E805-BEC5-4385-82DA-A701AD15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52DE-8A68-4B29-9C43-E0CCFACA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E9A6-86ED-42EF-B060-19B2F48A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81B5-F020-45BB-A5BC-0232BD4C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63F8-AD89-4ACB-A033-EB9A2928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7BDBC-3A63-4FFC-A607-67800D1A1C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