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43765"/>
        <c:axId val="36280894"/>
      </c:barChart>
      <c:catAx>
        <c:axId val="6294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80894"/>
        <c:crosses val="autoZero"/>
        <c:auto val="1"/>
        <c:lblAlgn val="ctr"/>
        <c:lblOffset val="100"/>
        <c:noMultiLvlLbl val="0"/>
      </c:catAx>
      <c:valAx>
        <c:axId val="36280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725-75A2-48E6-8EA9-53CB7094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0D8-CF09-43D1-97BE-8B4CFD1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624-32C4-4D39-89EA-6E50950A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7DA-BCDC-4786-ADBA-66648E25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B3D-D609-49F1-8F5B-6AF82D9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76B-9A74-44A5-9885-1C1DEC16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C9D-F315-4892-B726-517BC573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EA1-3459-4C69-BF22-902E8C8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163-46EC-42E7-97D9-89101BE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229-AB4E-4035-82E1-55E9F287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617-055F-41BC-881C-7F4875D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737-369E-480B-870B-ADAFEA9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B188D-8283-43DF-8D27-29C8AC1B51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