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33625"/>
        <c:axId val="55476131"/>
      </c:barChart>
      <c:catAx>
        <c:axId val="51433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76131"/>
        <c:crosses val="autoZero"/>
        <c:auto val="1"/>
        <c:lblAlgn val="ctr"/>
        <c:lblOffset val="100"/>
        <c:noMultiLvlLbl val="0"/>
      </c:catAx>
      <c:valAx>
        <c:axId val="55476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33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767-F983-436C-A09A-04D84505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237-913A-4D30-90B3-B6294F9B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7F2-F458-42FC-864E-A41099D3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8CB-0BB7-40EA-9E8A-3FF9EF97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78A-1A83-4F87-8C12-94B8FC56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0AD-641D-466B-A094-74B56484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614-C759-46FA-90C7-25A1E9A1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8C1-B903-4A4C-9103-B0387297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D04-04A4-4357-BD3E-465AC0AC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755-183B-4A77-8C54-C8C7DD34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23B-7553-4285-8798-A458DE86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8C2-F863-4F7D-A93B-D6D83305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3AB10-D2D8-463A-A1A9-918CD8EB8A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