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6153213"/>
        <c:axId val="75266975"/>
      </c:barChart>
      <c:catAx>
        <c:axId val="3615321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266975"/>
        <c:crosses val="autoZero"/>
        <c:auto val="1"/>
        <c:lblAlgn val="ctr"/>
        <c:lblOffset val="100"/>
        <c:noMultiLvlLbl val="0"/>
      </c:catAx>
      <c:valAx>
        <c:axId val="7526697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15321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CC31-BE05-45F2-9BE0-FB3083187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BC41-6CC8-46D3-B512-5AC134DCE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5A36-7D26-4343-ABEC-190551D81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EAD4-7C0C-4EC7-BA16-F1236BCF3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59D3-73EB-4944-AC06-380D5E7DC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1EA4-D5D5-47A9-BD1D-43BC772DA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926A-DC6B-4F86-9C08-BC168CF63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2A50-06C7-4956-BDB4-9303C7793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6A2C-7B11-4448-AA46-C1AF8B7B9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B34B-8436-4D8B-BC10-5FE429448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78F9-3D8B-4F24-9203-904FE9BFF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88CD-CF05-41F5-B4C5-BF05FCB7E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DC584A-46EE-4F73-8181-1334EA63233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