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32274"/>
        <c:axId val="81224608"/>
      </c:barChart>
      <c:catAx>
        <c:axId val="28032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24608"/>
        <c:crosses val="autoZero"/>
        <c:auto val="1"/>
        <c:lblAlgn val="ctr"/>
        <c:lblOffset val="100"/>
        <c:noMultiLvlLbl val="0"/>
      </c:catAx>
      <c:valAx>
        <c:axId val="81224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32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612-365A-4219-82FB-09F86D62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560-13DD-4423-ACD6-EC6FEAD4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EBB-247B-46A3-9125-9E77381A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4CA-FBDC-408C-B215-EFB68FBD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2CB-0FFE-454C-ABFD-31D7155C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945-98C6-4374-A119-1816EB8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D5E-DF28-48E7-AD21-A2F15716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7C4-BB9E-4F22-A622-47DB844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734-2013-4E80-95B0-127257ED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EA6-B4DB-4F06-9FD0-6EAE7A3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4FD-7864-4C74-86AF-AF26AEB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5D4-F443-4303-90CF-F491590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C5123-EFAE-47F1-A5D8-359BB1CF1B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