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668351"/>
        <c:axId val="18884966"/>
      </c:barChart>
      <c:catAx>
        <c:axId val="18668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84966"/>
        <c:crosses val="autoZero"/>
        <c:auto val="1"/>
        <c:lblAlgn val="ctr"/>
        <c:lblOffset val="100"/>
        <c:noMultiLvlLbl val="0"/>
      </c:catAx>
      <c:valAx>
        <c:axId val="188849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68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6112-D635-49D5-86E7-818337E8A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C718-E08B-4CE6-B315-CE7BFDC2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799B-3F12-4578-8D40-8CD190E1E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EEB8-7A83-4589-8E9A-84DE011E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9E5F-54C0-4208-AEF5-4465D1B5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5A7-6A38-44B1-AB50-39D01639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5260-5DCA-4D9B-BF28-9A13BD7D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2D66-C30F-4D2D-A20C-FE6400C0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E87-E419-4A4D-81F9-9EA7DC9E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CA5E-0FD1-4656-B82A-3D92EE36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F021-D1F2-4415-9437-CD99746A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FA06-B16F-4BB0-9DFC-3121D00C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CD92A-4F33-4971-8A8D-F6957ACFB9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