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99824"/>
        <c:axId val="80740500"/>
      </c:barChart>
      <c:catAx>
        <c:axId val="39599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40500"/>
        <c:crosses val="autoZero"/>
        <c:auto val="1"/>
        <c:lblAlgn val="ctr"/>
        <c:lblOffset val="100"/>
        <c:noMultiLvlLbl val="0"/>
      </c:catAx>
      <c:valAx>
        <c:axId val="80740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99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980-37EB-4B3C-8C97-A542DD5A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A01-49A9-4195-A6B1-AF233FC5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A2D-2D7F-4E9A-AA0F-DC593D0E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412-905F-4E37-9F87-1BA54DF0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55F-9C2B-45DB-9549-86810EBF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BB6-94EE-44ED-BD66-84B4AAA6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43B-7EEF-43B2-888E-C805600F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7C3-C0FE-4DBF-8F09-FE7112F6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2FA-F52C-4AFA-9204-6505953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998-D763-4801-92D4-AA37FA4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26C-1C2C-4E53-B875-05934981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DF9-8B30-4E2D-80DD-5E01A55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D580B-8324-4CBB-8AE7-706D2CA2DA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