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352854"/>
        <c:axId val="32857387"/>
      </c:barChart>
      <c:catAx>
        <c:axId val="70352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57387"/>
        <c:crosses val="autoZero"/>
        <c:auto val="1"/>
        <c:lblAlgn val="ctr"/>
        <c:lblOffset val="100"/>
        <c:noMultiLvlLbl val="0"/>
      </c:catAx>
      <c:valAx>
        <c:axId val="328573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52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72C-20A1-4FF4-B8F3-97A39C552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A849-2947-419E-A930-09480A84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8E9-38B5-4921-814B-1CED348F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493-C0E6-4246-B92B-38636193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720-FD58-48B3-AC98-878954B6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D48-D5F1-4F8B-A00C-1A1145A1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0D5D-495A-4B97-9A1E-D674952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27E9-D2D7-4F1D-893D-A25E7CB5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DAD-86C6-4C78-A9AD-D0B6F15B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083-8CE1-4F74-89B8-203D3883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89B-A54E-4428-92ED-C8DDB0E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57E-3AC7-45B4-AF17-D43EAD68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1582C-A7C4-4786-BCC5-426B651678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