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6662"/>
        <c:axId val="46505766"/>
      </c:barChart>
      <c:catAx>
        <c:axId val="5366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505766"/>
        <c:crosses val="autoZero"/>
        <c:auto val="1"/>
        <c:lblAlgn val="ctr"/>
        <c:lblOffset val="100"/>
        <c:noMultiLvlLbl val="0"/>
      </c:catAx>
      <c:valAx>
        <c:axId val="465057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66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401B-5FD5-46A3-966B-802F4B576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E791-214A-472C-9809-E4725970B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25C2-1C27-4751-9852-C2FC47751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406F-5B4E-4D14-8286-9C8BD804E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F1E2-DD68-44C0-A0E0-93B288D66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8997-E660-4BA1-954B-F4B6F692F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222A-4B3B-49F8-A0FE-FCABD7CE8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F9FF-1352-4005-A758-42C85FF4A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8F75-64FE-4671-8AAA-BE9304B84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3409-5257-45DB-A59D-6F21CBC86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31D2-4212-4941-9038-AFB674E09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1985-1329-435E-A158-DEFF7034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F977D8-5BA6-4CFD-85A1-C6A95A77415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