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26535"/>
        <c:axId val="7683484"/>
      </c:barChart>
      <c:catAx>
        <c:axId val="83726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3484"/>
        <c:crosses val="autoZero"/>
        <c:auto val="1"/>
        <c:lblAlgn val="ctr"/>
        <c:lblOffset val="100"/>
        <c:noMultiLvlLbl val="0"/>
      </c:catAx>
      <c:valAx>
        <c:axId val="7683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26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639-C1E9-4006-A0B9-E48D4864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D57-673D-41F1-8153-ADAF8914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3B0-D19F-4A92-82DC-EF1AF3C2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950-6937-4D33-B68C-CFAC0B74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2C9-FF38-40AE-99DE-2CF26456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596-E7D9-4AE6-A9C6-58517171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79E-15C8-4043-9473-90E7C5AA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616-CF77-439E-9336-7A2BF94F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0B0-2078-424E-A0B9-1346A8C7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0AC-A457-4F8C-B868-451865AC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7C2-DF89-4638-9F7C-4EEDE0FC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CA15-BC88-45C5-B5F9-5539DAF3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07A04-184F-4B48-9730-4F240C212C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