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52339"/>
        <c:axId val="18952156"/>
      </c:barChart>
      <c:catAx>
        <c:axId val="19952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52156"/>
        <c:crosses val="autoZero"/>
        <c:auto val="1"/>
        <c:lblAlgn val="ctr"/>
        <c:lblOffset val="100"/>
        <c:noMultiLvlLbl val="0"/>
      </c:catAx>
      <c:valAx>
        <c:axId val="18952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52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6EFA-6B66-4B43-AE44-EA58407B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E3D9-C842-44FD-B80A-2FAB5A4B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31A-1D4C-4BE0-ADEB-B711778B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FE3-A475-4BB5-92D4-485CEB31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AD1-2FE0-4D63-A569-995C710D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749-0BB5-435A-BCCC-8A7CE8C6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890-5134-4426-A9D6-F7762A32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204-30D0-447D-AAA8-7904C3E9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691-D55E-4CC3-8118-24E71C2E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FF14-DB43-4D55-80CD-1ABDD20A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DC0-271A-44EA-A347-8E391162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82B-94A1-47DC-8A9D-D1CFF405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7CFEB-7EBD-459B-867B-64F63DF2A7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