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581017"/>
        <c:axId val="82984720"/>
      </c:barChart>
      <c:catAx>
        <c:axId val="195810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84720"/>
        <c:crosses val="autoZero"/>
        <c:auto val="1"/>
        <c:lblAlgn val="ctr"/>
        <c:lblOffset val="100"/>
        <c:noMultiLvlLbl val="0"/>
      </c:catAx>
      <c:valAx>
        <c:axId val="829847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810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7154-8297-41CB-96BB-7BFE12E14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0213-13EB-41CD-AB88-F423B99A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D07F-E950-49FB-8C5A-8AFD13DAF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6A7E-56B6-4AB0-90C9-22A0897F4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F3B5-7F6C-49D8-A987-9608A70C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0626-99A8-41C3-8971-DC453296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F4A0-8CD1-4318-9A38-F44B2AAF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FD4E-2246-4CA9-9DAA-634221A1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D1BE-B5A4-4C9A-803B-F2709827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80BE-4337-42A8-813E-59952E80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2D33-D57D-4973-BF47-BBBAA693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110C-9C66-4424-8EDA-07695275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5E157-5B54-4776-8497-84E379890F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