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11928"/>
        <c:axId val="97901554"/>
      </c:barChart>
      <c:catAx>
        <c:axId val="802119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1554"/>
        <c:crosses val="autoZero"/>
        <c:auto val="1"/>
        <c:lblAlgn val="ctr"/>
        <c:lblOffset val="100"/>
        <c:noMultiLvlLbl val="0"/>
      </c:catAx>
      <c:valAx>
        <c:axId val="97901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119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F0A-7EF6-47B4-835C-07D45ECA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89B-1CAA-4BE2-80A5-DDB9BA5C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63DD-4F15-4994-B696-9B16CAA3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4A9-022A-4301-A33F-5BCE8741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6C1-973C-4720-A322-752946E5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A93A-9961-4EE1-B83B-25B04736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AA9-65C6-44AA-A21C-71A7124F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454-8FE9-41FC-9078-02E5FBB0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F82E-1C55-4718-B65F-B8D9D9CD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DD6-A6E8-4EB7-A341-052D92AA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156-EA70-4F03-85CF-0A69CDEA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63CF-B9CA-438B-84CF-D6D0CDBD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B3E3D-174F-4E89-8CB1-29678EBB05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