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08210"/>
        <c:axId val="13108897"/>
      </c:barChart>
      <c:catAx>
        <c:axId val="68708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8897"/>
        <c:crosses val="autoZero"/>
        <c:auto val="1"/>
        <c:lblAlgn val="ctr"/>
        <c:lblOffset val="100"/>
        <c:noMultiLvlLbl val="0"/>
      </c:catAx>
      <c:valAx>
        <c:axId val="131088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08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39C-17A2-4360-881D-39D30173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5C3-6391-4A11-9276-98142CE3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330-B81C-4DCB-B0F1-77D0E9AD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FD9E-BDC6-4D14-AC1E-BCDF7F8D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893-919B-4E7C-8977-C2B090D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0E5-895E-4700-9CF7-7EE75FD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8B-9BE4-4B6C-9592-619FC994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190-FD3A-49DD-A053-CF2C4F9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BD9-5385-4C3A-ACD5-77F4A346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680-BF02-4053-A7C9-3DE006A4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AC8-3F67-4959-9003-AF1C5C3D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6AA-91B1-4784-BC2C-445A6A1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0EE47-FDB0-472F-A07D-D06698114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