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21729"/>
        <c:axId val="57558937"/>
      </c:barChart>
      <c:catAx>
        <c:axId val="48521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58937"/>
        <c:crosses val="autoZero"/>
        <c:auto val="1"/>
        <c:lblAlgn val="ctr"/>
        <c:lblOffset val="100"/>
        <c:noMultiLvlLbl val="0"/>
      </c:catAx>
      <c:valAx>
        <c:axId val="57558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21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504-8F66-4D52-B13B-91C3FEDA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4FF-A109-41BC-833C-CDFE9F7E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A88-0780-4447-819A-9C9B4A0E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927-EE1F-41A3-BA8E-CB2DAF48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819-3C9E-4158-B4DF-5BFDAF9A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6EC-16DE-481B-A235-78510BFF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9ED-C81D-43BD-88DB-56C0EF55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1D1-2D39-4F13-998D-AEB7C74D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D74-198F-4680-9729-5E06ECB1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080-7E91-427D-B89A-C4FFA479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079-1B91-49AB-A5B6-E1519D84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7B0-3838-4EC5-81CC-0FF7B64F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0A053-F7CD-4F9E-972C-41F2EBB150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