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95895"/>
        <c:axId val="77663855"/>
      </c:barChart>
      <c:catAx>
        <c:axId val="55495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63855"/>
        <c:crosses val="autoZero"/>
        <c:auto val="1"/>
        <c:lblAlgn val="ctr"/>
        <c:lblOffset val="100"/>
        <c:noMultiLvlLbl val="0"/>
      </c:catAx>
      <c:valAx>
        <c:axId val="77663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95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918A-ACC8-4FE0-85C5-581929DA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86A-1BBD-462B-8401-CFCE8C1D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9E9-11DE-4D0D-ACC2-E75F6811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636-0C7D-4553-A122-C4F8B604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F32-C95A-4FF7-96A0-62940740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AA0D-63DE-40DB-8483-6E759BD8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14B-A469-4603-A274-2B023CAE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436-4DDF-41A3-A2CA-C6A30289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E46-4807-4D6E-B824-90A8A379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01B8-E75C-49B1-98AF-50360576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468-3D31-45CA-BBA9-4402954D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297-18E2-4AC8-920B-23EDFC0F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1ACB7-274F-4BD2-B448-3A5FC91A92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