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42309"/>
        <c:axId val="10063169"/>
      </c:barChart>
      <c:catAx>
        <c:axId val="97642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63169"/>
        <c:crosses val="autoZero"/>
        <c:auto val="1"/>
        <c:lblAlgn val="ctr"/>
        <c:lblOffset val="100"/>
        <c:noMultiLvlLbl val="0"/>
      </c:catAx>
      <c:valAx>
        <c:axId val="10063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42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B99-E9C5-48A9-BDB4-12A3AD93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521-2E30-4A16-8C30-9DB2EB71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1AF-D2F8-4E6C-AC11-BDC90B95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719-DEA9-47EE-A9FE-CE4E5442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11C-1310-485B-83E1-3C62DF50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69B-D244-4DA5-8A50-14C0C233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9C83-6402-41FD-9C86-046A9C64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CC06-3CE7-43C1-84B1-A02F2BC9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4B2-90C5-4710-9256-0B36209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BC9-2A03-48C4-8D8C-3C32984A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136-2ECD-496E-8082-107F44A2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288-93AD-4FD8-B093-6B4F46D7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AEC31-F504-4AA3-804C-9F74D70204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