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28407"/>
        <c:axId val="89403531"/>
      </c:barChart>
      <c:catAx>
        <c:axId val="56128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3531"/>
        <c:crosses val="autoZero"/>
        <c:auto val="1"/>
        <c:lblAlgn val="ctr"/>
        <c:lblOffset val="100"/>
        <c:noMultiLvlLbl val="0"/>
      </c:catAx>
      <c:valAx>
        <c:axId val="89403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28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B76-1CBC-4FA7-A59B-ABB77B91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4D1-936D-45B7-9D07-C27AB10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BEA-C48D-46AA-9EB3-87BD8E70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2A-E6F5-4551-975B-BFBF51F7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26B-95A3-459E-976A-D65979B7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A8A-8CDD-4EA1-82D3-D5975EB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658-0BE2-4BE4-B1A3-490632D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DFE-59F7-43AA-935D-6B575D6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F69-3041-4F4E-94B8-32B409D9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BBD-653A-4428-8AC5-D7BF95C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CBF-8D27-430C-BFF2-B1EFD56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AF0-2306-46AA-BD63-A7290D6D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C1363-4418-4AF3-8FE5-407228621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