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37505"/>
        <c:axId val="34599765"/>
      </c:barChart>
      <c:catAx>
        <c:axId val="106375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99765"/>
        <c:crosses val="autoZero"/>
        <c:auto val="1"/>
        <c:lblAlgn val="ctr"/>
        <c:lblOffset val="100"/>
        <c:noMultiLvlLbl val="0"/>
      </c:catAx>
      <c:valAx>
        <c:axId val="345997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375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016-B8FD-45FF-BD0B-54B40FE6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85E1-CED6-4A76-A0CF-C8448762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113-BC4D-4AE5-A203-1610DC66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8CFE-705F-4C10-A9FF-74F3A4FD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F145-FFCB-4400-99CD-923C7E80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51E-00E6-4A70-B47D-B0518418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4DA-8E46-4B7A-AEA9-E2B9122B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071-B45F-4EBB-A5F8-41811A45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395-1494-478F-9314-9EDD2A45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811-270D-42A0-A7F6-364BFF29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93C2-8BEA-4C80-A7C5-76F07AF6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01F-7AF0-4D47-A8F8-CD48F671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CDE41-0F56-4FD4-AE1B-C99AEC43FB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