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42022"/>
        <c:axId val="57001049"/>
      </c:barChart>
      <c:catAx>
        <c:axId val="69242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1049"/>
        <c:crosses val="autoZero"/>
        <c:auto val="1"/>
        <c:lblAlgn val="ctr"/>
        <c:lblOffset val="100"/>
        <c:noMultiLvlLbl val="0"/>
      </c:catAx>
      <c:valAx>
        <c:axId val="57001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2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E71-754A-408E-96B1-08B4DC6B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7BE-3327-4C71-8AAD-32BCAC4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8C9-6E33-4726-B6BD-7234F901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5F2-404C-4039-81E6-82523764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A88-6AAF-4A91-B149-81B56F71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809-51B3-4D09-9A3A-EC4881A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621-5D70-4025-AF11-D84B6028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D49-6629-427C-BA63-C009863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551-519C-411A-BFF8-472F7333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DD7-3EC8-4B6C-9292-2DCAD12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DB5-27B5-4FCC-A49D-88DBDB39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419-4912-4247-A83B-D42277D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572F2-C6E9-401C-B7B6-E8A037130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