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56136"/>
        <c:axId val="62969088"/>
      </c:barChart>
      <c:catAx>
        <c:axId val="64156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9088"/>
        <c:crosses val="autoZero"/>
        <c:auto val="1"/>
        <c:lblAlgn val="ctr"/>
        <c:lblOffset val="100"/>
        <c:noMultiLvlLbl val="0"/>
      </c:catAx>
      <c:valAx>
        <c:axId val="62969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56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9CB-2490-45F2-B000-F3D65469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08A-ED43-4DFD-A093-3ADCD71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F88-0E0C-4127-95D8-41205E90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E6A-FAA1-4384-A4AE-2BFC93E2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E20-CADE-44E7-BA11-3A672A9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145-B657-4E8A-84D8-C12B17E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6E-5354-41F0-BF5C-FD9406C0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A2E-7505-48A2-A349-44D56C8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D13-FE49-42EB-B266-1F1AF84D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295-B114-4A5F-AFB2-866A252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A1E-E512-46D3-BC96-814E2DE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9D7-31C2-4BA1-A9FB-1576A1C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D9FF3-558A-4C7E-A3FF-D7C1C6B006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