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550816"/>
        <c:axId val="32507216"/>
      </c:barChart>
      <c:catAx>
        <c:axId val="52550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07216"/>
        <c:crosses val="autoZero"/>
        <c:auto val="1"/>
        <c:lblAlgn val="ctr"/>
        <c:lblOffset val="100"/>
        <c:noMultiLvlLbl val="0"/>
      </c:catAx>
      <c:valAx>
        <c:axId val="325072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50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B3BB-7D60-4C6C-ADF3-51FEB4C2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0AEB-675D-4B3C-8DD7-7C4534EC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2BC7-0AA9-44CA-8ABE-86F1D3D6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417-C997-40AF-984A-7B27D47B9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E5B9-DC52-4930-943D-84A33926E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822D-4567-4481-9EAE-5CC143A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009D-BAAA-4315-9055-99A80F22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F84-66E4-49A4-8919-925B7A4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9C2-C812-48C3-94AA-B4FAC11F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6C94-8CE4-4C8A-9423-D17FD89C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F00-C5BD-497E-8C66-1B2D96FE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334E-33F5-4561-8975-2F691CBA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04591-2C65-4107-A6C7-D83660B4C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