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555783"/>
        <c:axId val="98981998"/>
      </c:barChart>
      <c:catAx>
        <c:axId val="765557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981998"/>
        <c:crosses val="autoZero"/>
        <c:auto val="1"/>
        <c:lblAlgn val="ctr"/>
        <c:lblOffset val="100"/>
        <c:noMultiLvlLbl val="0"/>
      </c:catAx>
      <c:valAx>
        <c:axId val="989819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5557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72DA-7801-49AA-A2A2-F58EAACDC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9FAC-BAB3-479A-9D0C-DD1DFEE68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D71F-E579-46FE-9617-06676274C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5C0E-42C1-485E-9571-DE92ABDF6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E3AC-F938-4ACF-90F1-A36A34687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1724-BF84-4CFE-B393-91436EDF6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FB92-4FBC-4116-8317-70278220E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5991-7F49-4FCE-9B09-88EDE2808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D81D-C986-4C1B-A5A7-994E4FDBF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BACD-1382-4F79-852A-2C583DE7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CACE-1881-4CF8-BDB1-3E7536DA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B540-8067-45F3-B337-81CE4C7A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2F2172-3DE8-414C-842D-ED52F70C3B0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