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69077"/>
        <c:axId val="67648676"/>
      </c:barChart>
      <c:catAx>
        <c:axId val="49069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48676"/>
        <c:crosses val="autoZero"/>
        <c:auto val="1"/>
        <c:lblAlgn val="ctr"/>
        <c:lblOffset val="100"/>
        <c:noMultiLvlLbl val="0"/>
      </c:catAx>
      <c:valAx>
        <c:axId val="67648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69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A3A-F699-4011-A197-E0738E27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F3F-7B9A-435A-AAB7-15C48318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54E-359C-41CF-A79C-EC34E3C7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3A7-A48A-4456-8D25-14557D6E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C86-1872-4B38-B77F-0DBEDA6A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D5B-BE9D-448E-ABFE-C84FD1EA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5B5-261C-4C6D-8B8A-F9991FC9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F1C-6F95-4DA0-8CB1-BEF866C3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7BF-37ED-44CA-985F-D50B272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9E4-9068-447A-9905-FEABA092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D8C-0757-4734-9D05-EA922E61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48E-C5A3-45BC-AA45-D10748B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22A0F-0439-435A-9469-59D2674901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